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EE56-3FA0-4E81-A47A-EB2FD132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565-C01C-4701-8458-15D8C7C9C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79A-4F52-445C-B02A-804512AB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A05-B78D-4563-91A6-698C76AC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7E5-3541-49C0-828D-79976DB5D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95EC-9137-4145-B3EE-BE2080F8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9863-73B2-4D0F-AB71-1BCCD46E4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B76-D2B4-4095-AE43-FF73F753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F4D1-1220-43E6-A976-0B730F49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E6C6-3CD8-407A-AEC3-79B9FAEE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452C-9685-4F1D-BD56-9974E0F9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E46-1605-4356-895D-D41B772FB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40D-B402-4F46-A1A1-E2568C58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78F-40B4-4541-9021-F742D5A1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72A-1C37-4DEF-907B-DC057F41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2E88-BCB0-426D-B4BF-12FF66A8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7F62-E32C-44B8-B880-886E457F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C2C-2CB6-43BE-8A14-9EF7BE59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F2D-F66D-4293-BB12-D26714A3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0BF-0082-4431-AC1B-B631B0EBF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37D-9612-4042-B1EE-4741FE06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37B-0302-44E0-BD81-FBF635D12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A696-AE13-4B6C-AE5B-53B5A2666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A64-90EC-4B3C-BD5B-67C5C402C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1782-B590-42E0-9BFB-3204257E5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1124-443A-4019-AF9F-76EED85A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94C-F3C5-4D38-B721-19F725C1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DD5-16A2-480F-B4B0-C368CC9EE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DC7-C064-42CE-9B1B-D1A0E68E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57D-842A-4552-8413-0537F5FD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47F-D81B-430D-81AC-4AFD8D14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E09-AA4C-4846-9B67-9C284AF4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950-1289-415A-852E-DBBA6D07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C3B-B9B3-4026-9FFC-A1EA73D9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FDE5-3080-4DAE-85E9-592DAD575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DB8A-78EC-486A-AAA2-996D2D5B4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BAA-7B08-4B7B-9B4F-A7001189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ECA-38A8-474C-A7C2-63578B172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8E46-46D8-43CC-B7CE-0FBF7329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0D01-31A8-41D1-BFA7-0B273565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B56-8FA4-4B56-9EEA-CC7A62BD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76CA-AFA4-4208-94E8-02FFF85C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188-E87F-4C4D-9AA9-23330103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C2D-DB88-46AD-A966-058DFB9B9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FC0D-483D-4535-B9E2-19ADE221C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686-7896-40B5-AE38-AD995B5C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227E-704B-424E-B6C5-3C32B5E8E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24D-F9A5-4CBF-A450-E8CBC842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0198-8FAC-4E95-9251-21B26D86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541-6583-47D7-A7EA-6FE3A573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542-1649-492B-8EA4-4F21DEC2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95A8-5898-4948-8007-9C3B784D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E51-5293-42AC-9847-42D13AF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B8E-B008-4B6C-8F93-98F7578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88C-AE71-48B9-AFF1-9C00AE80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A89-5125-4CE1-9EF9-5C937564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619-CCD9-42DC-8ECB-8028216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25C-EC37-4102-9F37-3F5132D1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0BC-46B8-434B-92D6-15162175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AA5-11AD-4EDE-BDEC-C43E070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C03-10EF-4044-B0E5-497E229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C30-D2F4-4FD5-ACF8-9859904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0B0-D3AD-4E52-A43C-D3FE6BA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333-FAD6-49AB-84F6-BD6FA3A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D9F2-544A-4C07-A27A-CF53F10A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h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v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stories he laid the foundatio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etective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herlock Hol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d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oderick &amp; Madeline U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 narrator does with Usher to cheer him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painting, reading, writing, listening to mus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ctivities turn negative th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the title fits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house that the Ushers own f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name fell – no more U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narrator knows U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y were childhood friends – Usher sends the narrator a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wthorne’s most famous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the sister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catalepsy – the victim loses sensation and the ability to move the limbs or entir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nd the narrator 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tapping at 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mood or feeling created in a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bird, so the narrator th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use of the shift of feeling from the narrator to the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en the narrator says he’ll see “Lenore,” the raven says, “Nevermore.” The narrator thinks the bird means he’ll never see Lenor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carle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the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ove of Le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mental in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veil come off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ces he wears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funeral and a we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cret s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thers feel he wears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y think he has a secret s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had something to do with the little girl from the funeral. One lady saw her body shudder &amp; saw their spirits walking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of Poe’s 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Elizabeth’s views of the veil change throughout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t first she hates it &amp; wouldn’t marry him. At the end she is the one who tells the others to leave i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why Ahab wants to kill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venge – Moby took his l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ard for spotting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gold o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ation of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ig, mean, dented brow, harpoon holes, intelligent malignity, t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ev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everything bad is blamed on him p. 3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immortal p. 3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iquitous p. 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t malignity p. 3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ather was a drunk &amp;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her died when he was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parents would never adop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father remarried &amp; wouldn’t give him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crew decides to join Ahab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tion even though some (like Starbuck) are against it to star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solation has made them all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fear being called out for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is ancestor was a judge in the Salem Witch Trials. He changed his name from Hathorne to Hawthorne so he wouldn’t be associated to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an Melv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he got his ideas for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an Melv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from his personal experiences at 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other sea wri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3:28Z</dcterms:created>
  <dc:creator>Grant County High School</dc:creator>
  <dc:description/>
  <dc:language>en-US</dc:language>
  <cp:lastModifiedBy>ACSD</cp:lastModifiedBy>
  <dcterms:modified xsi:type="dcterms:W3CDTF">2010-10-27T23:57:06Z</dcterms:modified>
  <cp:revision>50</cp:revision>
  <dc:subject/>
  <dc:title>No Slide Title</dc:title>
</cp:coreProperties>
</file>